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6203-BF4B-4FBB-BE80-79E41017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68A-72E3-48F7-9CE7-A7346FF9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BA88-2703-4FA8-9354-3C862200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EBB4-8835-4575-B0D9-D2AF18B6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1018-67A0-4F39-BB20-346F0D17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6F9A-EB75-4BDC-B117-EF3B994E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8D5-A0A9-4870-AFBC-91DD82D3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CE4-162E-425A-AEB0-AD9F123C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81B-FFC5-4B66-ABAF-4BA1676A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0DA2-98A6-48D8-B085-C35CF46C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98CB-F573-4397-A81F-DCD42E1F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480A-6EDC-4BC7-B0EB-C51422FA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7616-6542-4C81-BC14-8CCB9061B04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hyperlink" Target="http://nga.gov.au/Exhibition/BalletsRusses/Default.cfm?IRN=57944&amp;ViewID=2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286160" cy="3191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22716" r="0" b="-6916"/>
          <a:stretch/>
        </p:blipFill>
        <p:spPr>
          <a:xfrm>
            <a:off x="5076720" y="0"/>
            <a:ext cx="4067280" cy="2565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716360" y="1844640"/>
            <a:ext cx="3870360" cy="2898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427640" y="4498920"/>
            <a:ext cx="4716360" cy="2359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4056120"/>
            <a:ext cx="6516720" cy="2801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253280" y="2276640"/>
            <a:ext cx="1890720" cy="223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2205000"/>
            <a:ext cx="5076720" cy="3808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381400" cy="30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68360" y="1413000"/>
            <a:ext cx="820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nap ITC"/>
              </a:rPr>
              <a:t>National Gallery of Australia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63640" y="260280"/>
            <a:ext cx="5761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Snap ITC"/>
              </a:rPr>
              <a:t>PICK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Snap ITC"/>
              <a:ea typeface="Snap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Snap ITC"/>
              </a:rPr>
              <a:t>A QUESTIO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Snap ITC"/>
              <a:ea typeface="Snap ITC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684360" y="1844640"/>
            <a:ext cx="1942920" cy="1079640"/>
          </a:xfrm>
          <a:custGeom>
            <a:avLst/>
            <a:gdLst>
              <a:gd name="textAreaLeft" fmla="*/ 69840 w 1942920"/>
              <a:gd name="textAreaRight" fmla="*/ 1873080 w 194292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Snap ITC"/>
              </a:rPr>
              <a:t>WHER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Snap ITC"/>
              </a:rPr>
              <a:t>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Snap ITC"/>
              </a:rPr>
              <a:t>GALL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5084640"/>
            <a:ext cx="1943280" cy="1081080"/>
          </a:xfrm>
          <a:custGeom>
            <a:avLst/>
            <a:gdLst>
              <a:gd name="textAreaLeft" fmla="*/ 69840 w 1943280"/>
              <a:gd name="textAreaRight" fmla="*/ 1873440 w 194328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38821" h="21600">
                <a:moveTo>
                  <a:pt x="0" y="0"/>
                </a:moveTo>
                <a:lnTo>
                  <a:pt x="38821" y="0"/>
                </a:lnTo>
                <a:lnTo>
                  <a:pt x="38821" y="21600"/>
                </a:lnTo>
                <a:lnTo>
                  <a:pt x="0" y="21600"/>
                </a:lnTo>
                <a:close/>
              </a:path>
              <a:path fill="lightenLess" w="38821" h="21600">
                <a:moveTo>
                  <a:pt x="0" y="0"/>
                </a:moveTo>
                <a:lnTo>
                  <a:pt x="38821" y="0"/>
                </a:lnTo>
                <a:lnTo>
                  <a:pt x="37421" y="1400"/>
                </a:lnTo>
                <a:lnTo>
                  <a:pt x="1400" y="1400"/>
                </a:lnTo>
                <a:close/>
              </a:path>
              <a:path fill="darken" w="38821" h="21600">
                <a:moveTo>
                  <a:pt x="38821" y="0"/>
                </a:moveTo>
                <a:lnTo>
                  <a:pt x="38821" y="21600"/>
                </a:lnTo>
                <a:lnTo>
                  <a:pt x="37421" y="20200"/>
                </a:lnTo>
                <a:lnTo>
                  <a:pt x="37421" y="1400"/>
                </a:lnTo>
                <a:close/>
              </a:path>
              <a:path fill="darkenLess" w="38821" h="21600">
                <a:moveTo>
                  <a:pt x="38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21" y="20200"/>
                </a:lnTo>
                <a:close/>
              </a:path>
              <a:path fill="lighten" w="38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400ed"/>
              </a:gs>
              <a:gs pos="100000">
                <a:srgbClr val="0000ff"/>
              </a:gs>
            </a:gsLst>
            <a:lin ang="10800000"/>
          </a:gradFill>
          <a:ln w="3240">
            <a:solidFill>
              <a:srgbClr val="000000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429000"/>
            <a:ext cx="1942920" cy="1081080"/>
          </a:xfrm>
          <a:custGeom>
            <a:avLst/>
            <a:gdLst>
              <a:gd name="textAreaLeft" fmla="*/ 69840 w 1942920"/>
              <a:gd name="textAreaRight" fmla="*/ 1873080 w 194292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38814" h="21600">
                <a:moveTo>
                  <a:pt x="0" y="0"/>
                </a:moveTo>
                <a:lnTo>
                  <a:pt x="38814" y="0"/>
                </a:lnTo>
                <a:lnTo>
                  <a:pt x="38814" y="21600"/>
                </a:lnTo>
                <a:lnTo>
                  <a:pt x="0" y="21600"/>
                </a:lnTo>
                <a:close/>
              </a:path>
              <a:path fill="lightenLess" w="38814" h="21600">
                <a:moveTo>
                  <a:pt x="0" y="0"/>
                </a:moveTo>
                <a:lnTo>
                  <a:pt x="38814" y="0"/>
                </a:lnTo>
                <a:lnTo>
                  <a:pt x="37414" y="1400"/>
                </a:lnTo>
                <a:lnTo>
                  <a:pt x="1400" y="1400"/>
                </a:lnTo>
                <a:close/>
              </a:path>
              <a:path fill="darken" w="38814" h="21600">
                <a:moveTo>
                  <a:pt x="38814" y="0"/>
                </a:moveTo>
                <a:lnTo>
                  <a:pt x="38814" y="21600"/>
                </a:lnTo>
                <a:lnTo>
                  <a:pt x="37414" y="20200"/>
                </a:lnTo>
                <a:lnTo>
                  <a:pt x="37414" y="1400"/>
                </a:lnTo>
                <a:close/>
              </a:path>
              <a:path fill="darkenLess" w="38814" h="21600">
                <a:moveTo>
                  <a:pt x="38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14" y="20200"/>
                </a:lnTo>
                <a:close/>
              </a:path>
              <a:path fill="lighten" w="38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1773360"/>
            <a:ext cx="1943280" cy="1081080"/>
          </a:xfrm>
          <a:custGeom>
            <a:avLst/>
            <a:gdLst>
              <a:gd name="textAreaLeft" fmla="*/ 79200 w 1943280"/>
              <a:gd name="textAreaRight" fmla="*/ 1864080 w 1943280"/>
              <a:gd name="textAreaTop" fmla="*/ 79200 h 1081080"/>
              <a:gd name="textAreaBottom" fmla="*/ 1001880 h 1081080"/>
            </a:gdLst>
            <a:ahLst/>
            <a:rect l="textAreaLeft" t="textAreaTop" r="textAreaRight" b="textAreaBottom"/>
            <a:pathLst>
              <a:path w="38821" h="21600">
                <a:moveTo>
                  <a:pt x="0" y="0"/>
                </a:moveTo>
                <a:lnTo>
                  <a:pt x="38821" y="0"/>
                </a:lnTo>
                <a:lnTo>
                  <a:pt x="38821" y="21600"/>
                </a:lnTo>
                <a:lnTo>
                  <a:pt x="0" y="21600"/>
                </a:lnTo>
                <a:close/>
              </a:path>
              <a:path fill="lightenLess" w="38821" h="21600">
                <a:moveTo>
                  <a:pt x="0" y="0"/>
                </a:moveTo>
                <a:lnTo>
                  <a:pt x="38821" y="0"/>
                </a:lnTo>
                <a:lnTo>
                  <a:pt x="37235" y="1586"/>
                </a:lnTo>
                <a:lnTo>
                  <a:pt x="1586" y="1586"/>
                </a:lnTo>
                <a:close/>
              </a:path>
              <a:path fill="darken" w="38821" h="21600">
                <a:moveTo>
                  <a:pt x="38821" y="0"/>
                </a:moveTo>
                <a:lnTo>
                  <a:pt x="38821" y="21600"/>
                </a:lnTo>
                <a:lnTo>
                  <a:pt x="37235" y="20014"/>
                </a:lnTo>
                <a:lnTo>
                  <a:pt x="37235" y="1586"/>
                </a:lnTo>
                <a:close/>
              </a:path>
              <a:path fill="darkenLess" w="38821" h="21600">
                <a:moveTo>
                  <a:pt x="38821" y="21600"/>
                </a:moveTo>
                <a:lnTo>
                  <a:pt x="0" y="21600"/>
                </a:lnTo>
                <a:lnTo>
                  <a:pt x="1586" y="20014"/>
                </a:lnTo>
                <a:lnTo>
                  <a:pt x="37235" y="20014"/>
                </a:lnTo>
                <a:close/>
              </a:path>
              <a:path fill="lighten" w="38821" h="21600">
                <a:moveTo>
                  <a:pt x="0" y="21600"/>
                </a:moveTo>
                <a:lnTo>
                  <a:pt x="0" y="0"/>
                </a:lnTo>
                <a:lnTo>
                  <a:pt x="1586" y="1586"/>
                </a:lnTo>
                <a:lnTo>
                  <a:pt x="1586" y="2001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Snap ITC"/>
              </a:rPr>
              <a:t>WHEN IS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Snap ITC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35280" y="3429000"/>
            <a:ext cx="1943280" cy="1081080"/>
          </a:xfrm>
          <a:custGeom>
            <a:avLst/>
            <a:gdLst>
              <a:gd name="textAreaLeft" fmla="*/ 69840 w 1943280"/>
              <a:gd name="textAreaRight" fmla="*/ 1873440 w 194328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38821" h="21600">
                <a:moveTo>
                  <a:pt x="0" y="0"/>
                </a:moveTo>
                <a:lnTo>
                  <a:pt x="38821" y="0"/>
                </a:lnTo>
                <a:lnTo>
                  <a:pt x="38821" y="21600"/>
                </a:lnTo>
                <a:lnTo>
                  <a:pt x="0" y="21600"/>
                </a:lnTo>
                <a:close/>
              </a:path>
              <a:path fill="lightenLess" w="38821" h="21600">
                <a:moveTo>
                  <a:pt x="0" y="0"/>
                </a:moveTo>
                <a:lnTo>
                  <a:pt x="38821" y="0"/>
                </a:lnTo>
                <a:lnTo>
                  <a:pt x="37421" y="1400"/>
                </a:lnTo>
                <a:lnTo>
                  <a:pt x="1400" y="1400"/>
                </a:lnTo>
                <a:close/>
              </a:path>
              <a:path fill="darken" w="38821" h="21600">
                <a:moveTo>
                  <a:pt x="38821" y="0"/>
                </a:moveTo>
                <a:lnTo>
                  <a:pt x="38821" y="21600"/>
                </a:lnTo>
                <a:lnTo>
                  <a:pt x="37421" y="20200"/>
                </a:lnTo>
                <a:lnTo>
                  <a:pt x="37421" y="1400"/>
                </a:lnTo>
                <a:close/>
              </a:path>
              <a:path fill="darkenLess" w="38821" h="21600">
                <a:moveTo>
                  <a:pt x="38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21" y="20200"/>
                </a:lnTo>
                <a:close/>
              </a:path>
              <a:path fill="lighten" w="38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Snap ITC"/>
              </a:rPr>
              <a:t>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086440"/>
            <a:ext cx="1942920" cy="1079280"/>
          </a:xfrm>
          <a:custGeom>
            <a:avLst/>
            <a:gdLst>
              <a:gd name="textAreaLeft" fmla="*/ 69840 w 1942920"/>
              <a:gd name="textAreaRight" fmla="*/ 1873080 w 194292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38879" h="21600">
                <a:moveTo>
                  <a:pt x="0" y="0"/>
                </a:moveTo>
                <a:lnTo>
                  <a:pt x="38879" y="0"/>
                </a:lnTo>
                <a:lnTo>
                  <a:pt x="38879" y="21600"/>
                </a:lnTo>
                <a:lnTo>
                  <a:pt x="0" y="21600"/>
                </a:lnTo>
                <a:close/>
              </a:path>
              <a:path fill="lightenLess" w="38879" h="21600">
                <a:moveTo>
                  <a:pt x="0" y="0"/>
                </a:moveTo>
                <a:lnTo>
                  <a:pt x="38879" y="0"/>
                </a:lnTo>
                <a:lnTo>
                  <a:pt x="37479" y="1400"/>
                </a:lnTo>
                <a:lnTo>
                  <a:pt x="1400" y="1400"/>
                </a:lnTo>
                <a:close/>
              </a:path>
              <a:path fill="darken" w="38879" h="21600">
                <a:moveTo>
                  <a:pt x="38879" y="0"/>
                </a:moveTo>
                <a:lnTo>
                  <a:pt x="38879" y="21600"/>
                </a:lnTo>
                <a:lnTo>
                  <a:pt x="37479" y="20200"/>
                </a:lnTo>
                <a:lnTo>
                  <a:pt x="37479" y="1400"/>
                </a:lnTo>
                <a:close/>
              </a:path>
              <a:path fill="darkenLess" w="38879" h="21600">
                <a:moveTo>
                  <a:pt x="38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9" y="20200"/>
                </a:lnTo>
                <a:close/>
              </a:path>
              <a:path fill="lighten" w="38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00b4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1773360"/>
            <a:ext cx="1942920" cy="1081080"/>
          </a:xfrm>
          <a:custGeom>
            <a:avLst/>
            <a:gdLst>
              <a:gd name="textAreaLeft" fmla="*/ 69840 w 1942920"/>
              <a:gd name="textAreaRight" fmla="*/ 1873080 w 194292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38814" h="21600">
                <a:moveTo>
                  <a:pt x="0" y="0"/>
                </a:moveTo>
                <a:lnTo>
                  <a:pt x="38814" y="0"/>
                </a:lnTo>
                <a:lnTo>
                  <a:pt x="38814" y="21600"/>
                </a:lnTo>
                <a:lnTo>
                  <a:pt x="0" y="21600"/>
                </a:lnTo>
                <a:close/>
              </a:path>
              <a:path fill="lightenLess" w="38814" h="21600">
                <a:moveTo>
                  <a:pt x="0" y="0"/>
                </a:moveTo>
                <a:lnTo>
                  <a:pt x="38814" y="0"/>
                </a:lnTo>
                <a:lnTo>
                  <a:pt x="37414" y="1400"/>
                </a:lnTo>
                <a:lnTo>
                  <a:pt x="1400" y="1400"/>
                </a:lnTo>
                <a:close/>
              </a:path>
              <a:path fill="darken" w="38814" h="21600">
                <a:moveTo>
                  <a:pt x="38814" y="0"/>
                </a:moveTo>
                <a:lnTo>
                  <a:pt x="38814" y="21600"/>
                </a:lnTo>
                <a:lnTo>
                  <a:pt x="37414" y="20200"/>
                </a:lnTo>
                <a:lnTo>
                  <a:pt x="37414" y="1400"/>
                </a:lnTo>
                <a:close/>
              </a:path>
              <a:path fill="darkenLess" w="38814" h="21600">
                <a:moveTo>
                  <a:pt x="38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14" y="20200"/>
                </a:lnTo>
                <a:close/>
              </a:path>
              <a:path fill="lighten" w="38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9400ed"/>
              </a:gs>
              <a:gs pos="100000">
                <a:srgbClr val="0000f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Snap ITC"/>
              </a:rPr>
              <a:t>W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Snap ITC"/>
              </a:rPr>
              <a:t>SHOU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Snap ITC"/>
              </a:rPr>
              <a:t>WE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5280" y="3429000"/>
            <a:ext cx="1944360" cy="1079640"/>
          </a:xfrm>
          <a:custGeom>
            <a:avLst/>
            <a:gdLst>
              <a:gd name="textAreaLeft" fmla="*/ 69840 w 1944360"/>
              <a:gd name="textAreaRight" fmla="*/ 1874520 w 194436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38894" h="21600">
                <a:moveTo>
                  <a:pt x="0" y="0"/>
                </a:moveTo>
                <a:lnTo>
                  <a:pt x="38894" y="0"/>
                </a:lnTo>
                <a:lnTo>
                  <a:pt x="38894" y="21600"/>
                </a:lnTo>
                <a:lnTo>
                  <a:pt x="0" y="21600"/>
                </a:lnTo>
                <a:close/>
              </a:path>
              <a:path fill="lightenLess" w="38894" h="21600">
                <a:moveTo>
                  <a:pt x="0" y="0"/>
                </a:moveTo>
                <a:lnTo>
                  <a:pt x="38894" y="0"/>
                </a:lnTo>
                <a:lnTo>
                  <a:pt x="37494" y="1400"/>
                </a:lnTo>
                <a:lnTo>
                  <a:pt x="1400" y="1400"/>
                </a:lnTo>
                <a:close/>
              </a:path>
              <a:path fill="darken" w="38894" h="21600">
                <a:moveTo>
                  <a:pt x="38894" y="0"/>
                </a:moveTo>
                <a:lnTo>
                  <a:pt x="38894" y="21600"/>
                </a:lnTo>
                <a:lnTo>
                  <a:pt x="37494" y="20200"/>
                </a:lnTo>
                <a:lnTo>
                  <a:pt x="37494" y="1400"/>
                </a:lnTo>
                <a:close/>
              </a:path>
              <a:path fill="darkenLess" w="38894" h="21600">
                <a:moveTo>
                  <a:pt x="38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94" y="20200"/>
                </a:lnTo>
                <a:close/>
              </a:path>
              <a:path fill="lighten" w="38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5280" y="5086440"/>
            <a:ext cx="1944360" cy="1079280"/>
          </a:xfrm>
          <a:custGeom>
            <a:avLst/>
            <a:gdLst>
              <a:gd name="textAreaLeft" fmla="*/ 69840 w 1944360"/>
              <a:gd name="textAreaRight" fmla="*/ 1874520 w 1944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38907" h="21600">
                <a:moveTo>
                  <a:pt x="0" y="0"/>
                </a:moveTo>
                <a:lnTo>
                  <a:pt x="38907" y="0"/>
                </a:lnTo>
                <a:lnTo>
                  <a:pt x="38907" y="21600"/>
                </a:lnTo>
                <a:lnTo>
                  <a:pt x="0" y="21600"/>
                </a:lnTo>
                <a:close/>
              </a:path>
              <a:path fill="lightenLess" w="38907" h="21600">
                <a:moveTo>
                  <a:pt x="0" y="0"/>
                </a:moveTo>
                <a:lnTo>
                  <a:pt x="38907" y="0"/>
                </a:lnTo>
                <a:lnTo>
                  <a:pt x="37507" y="1400"/>
                </a:lnTo>
                <a:lnTo>
                  <a:pt x="1400" y="1400"/>
                </a:lnTo>
                <a:close/>
              </a:path>
              <a:path fill="darken" w="38907" h="21600">
                <a:moveTo>
                  <a:pt x="38907" y="0"/>
                </a:moveTo>
                <a:lnTo>
                  <a:pt x="38907" y="21600"/>
                </a:lnTo>
                <a:lnTo>
                  <a:pt x="37507" y="20200"/>
                </a:lnTo>
                <a:lnTo>
                  <a:pt x="37507" y="1400"/>
                </a:lnTo>
                <a:close/>
              </a:path>
              <a:path fill="darkenLess" w="38907" h="21600">
                <a:moveTo>
                  <a:pt x="3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07" y="20200"/>
                </a:lnTo>
                <a:close/>
              </a:path>
              <a:path fill="lighten" w="3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87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al Gall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ustralia is in Par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, Canberra A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37111" t="28726" r="6870" b="6297"/>
          <a:stretch/>
        </p:blipFill>
        <p:spPr>
          <a:xfrm>
            <a:off x="4500720" y="1341360"/>
            <a:ext cx="4643280" cy="3367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35865" t="29553" r="7620" b="6132"/>
          <a:stretch/>
        </p:blipFill>
        <p:spPr>
          <a:xfrm>
            <a:off x="0" y="3579840"/>
            <a:ext cx="4608360" cy="3278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484360" y="4797360"/>
            <a:ext cx="2951280" cy="719280"/>
          </a:xfrm>
          <a:prstGeom prst="line">
            <a:avLst/>
          </a:prstGeom>
          <a:ln w="442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516720" y="2924280"/>
            <a:ext cx="433440" cy="2305080"/>
          </a:xfrm>
          <a:prstGeom prst="line">
            <a:avLst/>
          </a:prstGeom>
          <a:ln w="4752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5302080"/>
            <a:ext cx="2087640" cy="8254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Snap ITC"/>
              </a:rPr>
              <a:t>National Gall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 rot="396000">
            <a:off x="554040" y="6120"/>
            <a:ext cx="705636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2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Snap ITC"/>
              </a:rPr>
              <a:t>WHERE IS THE GALLE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Snap ITC"/>
              <a:ea typeface="Snap ITC"/>
            </a:endParaRPr>
          </a:p>
        </p:txBody>
      </p:sp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7667640" y="5373720"/>
            <a:ext cx="1332000" cy="1224000"/>
          </a:xfrm>
          <a:custGeom>
            <a:avLst/>
            <a:gdLst>
              <a:gd name="textAreaLeft" fmla="*/ 79200 w 1332000"/>
              <a:gd name="textAreaRight" fmla="*/ 1252800 w 13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3505" h="21600">
                <a:moveTo>
                  <a:pt x="0" y="0"/>
                </a:moveTo>
                <a:lnTo>
                  <a:pt x="23505" y="0"/>
                </a:lnTo>
                <a:lnTo>
                  <a:pt x="23505" y="21600"/>
                </a:lnTo>
                <a:lnTo>
                  <a:pt x="0" y="21600"/>
                </a:lnTo>
                <a:close/>
              </a:path>
              <a:path fill="lightenLess" w="23505" h="21600">
                <a:moveTo>
                  <a:pt x="0" y="0"/>
                </a:moveTo>
                <a:lnTo>
                  <a:pt x="23505" y="0"/>
                </a:lnTo>
                <a:lnTo>
                  <a:pt x="22105" y="1400"/>
                </a:lnTo>
                <a:lnTo>
                  <a:pt x="1400" y="1400"/>
                </a:lnTo>
                <a:close/>
              </a:path>
              <a:path fill="darken" w="23505" h="21600">
                <a:moveTo>
                  <a:pt x="23505" y="0"/>
                </a:moveTo>
                <a:lnTo>
                  <a:pt x="23505" y="21600"/>
                </a:lnTo>
                <a:lnTo>
                  <a:pt x="22105" y="20200"/>
                </a:lnTo>
                <a:lnTo>
                  <a:pt x="22105" y="1400"/>
                </a:lnTo>
                <a:close/>
              </a:path>
              <a:path fill="darkenLess" w="23505" h="21600">
                <a:moveTo>
                  <a:pt x="235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05" y="20200"/>
                </a:lnTo>
                <a:close/>
              </a:path>
              <a:path fill="lighten" w="235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05" h="21600">
                <a:moveTo>
                  <a:pt x="11753" y="3837"/>
                </a:moveTo>
                <a:lnTo>
                  <a:pt x="14329" y="6448"/>
                </a:lnTo>
                <a:lnTo>
                  <a:pt x="14329" y="4707"/>
                </a:lnTo>
                <a:lnTo>
                  <a:pt x="16105" y="4707"/>
                </a:lnTo>
                <a:lnTo>
                  <a:pt x="16105" y="8224"/>
                </a:lnTo>
                <a:lnTo>
                  <a:pt x="18716" y="10800"/>
                </a:lnTo>
                <a:lnTo>
                  <a:pt x="17062" y="10800"/>
                </a:lnTo>
                <a:lnTo>
                  <a:pt x="17062" y="17989"/>
                </a:lnTo>
                <a:lnTo>
                  <a:pt x="6443" y="17989"/>
                </a:lnTo>
                <a:lnTo>
                  <a:pt x="6443" y="10800"/>
                </a:lnTo>
                <a:lnTo>
                  <a:pt x="4790" y="10800"/>
                </a:lnTo>
                <a:close/>
              </a:path>
              <a:path fill="darkenLess" w="23505" h="21600">
                <a:moveTo>
                  <a:pt x="14329" y="6448"/>
                </a:moveTo>
                <a:lnTo>
                  <a:pt x="14329" y="4707"/>
                </a:lnTo>
                <a:lnTo>
                  <a:pt x="16105" y="4707"/>
                </a:lnTo>
                <a:lnTo>
                  <a:pt x="16105" y="8224"/>
                </a:lnTo>
                <a:close/>
              </a:path>
              <a:path fill="darkenLess" w="23505" h="21600">
                <a:moveTo>
                  <a:pt x="10830" y="14299"/>
                </a:moveTo>
                <a:lnTo>
                  <a:pt x="12675" y="14299"/>
                </a:lnTo>
                <a:lnTo>
                  <a:pt x="12675" y="17989"/>
                </a:lnTo>
                <a:lnTo>
                  <a:pt x="17062" y="17989"/>
                </a:lnTo>
                <a:lnTo>
                  <a:pt x="17062" y="10800"/>
                </a:lnTo>
                <a:lnTo>
                  <a:pt x="6443" y="10800"/>
                </a:lnTo>
                <a:lnTo>
                  <a:pt x="6443" y="17989"/>
                </a:lnTo>
                <a:lnTo>
                  <a:pt x="10830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allery is open daily 10.00 am 5.00pm(closed Christmas day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00000" y="260280"/>
            <a:ext cx="7201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Snap ITC"/>
              </a:rPr>
              <a:t>WHEN IS IT OPE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riday4Mar7:00pmBal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usses costume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aturday 26 Feb Ball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usses conservation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0"/>
            <a:ext cx="763272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9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Snap ITC"/>
              </a:rPr>
              <a:t>EVENT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Snap ITC"/>
              <a:ea typeface="Snap ITC"/>
            </a:endParaRPr>
          </a:p>
        </p:txBody>
      </p:sp>
      <p:pic>
        <p:nvPicPr>
          <p:cNvPr id="72" name="" descr="Image: &lt;b&gt;E O Hoppé&lt;/b&gt; 'L'Oiseau de Feu - Madame Thamar Karsavina' 1913 National Gallery of Australia, Canberra, purchased 1983"/>
          <p:cNvPicPr/>
          <p:nvPr/>
        </p:nvPicPr>
        <p:blipFill>
          <a:blip r:embed="rId3"/>
          <a:stretch/>
        </p:blipFill>
        <p:spPr>
          <a:xfrm>
            <a:off x="5724360" y="1628640"/>
            <a:ext cx="2760840" cy="3313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Adrian FEINT | not titled [man in clown-like costume and red mittens in ballet 'Petrouchka]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4005360"/>
            <a:ext cx="46083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924880" cy="333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38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3276720" y="2781360"/>
            <a:ext cx="25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nap ITC"/>
              </a:rPr>
              <a:t>PIC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Snap ITC"/>
              <a:ea typeface="Snap ITC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2405160" cy="3205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327640" y="4559400"/>
            <a:ext cx="3816360" cy="2298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340000" y="4592520"/>
            <a:ext cx="3024000" cy="2265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084720" y="2038320"/>
            <a:ext cx="3059280" cy="2529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rcRect l="0" t="40822" r="515" b="7809"/>
          <a:stretch/>
        </p:blipFill>
        <p:spPr>
          <a:xfrm>
            <a:off x="3564000" y="0"/>
            <a:ext cx="55800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h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11280" y="189000"/>
            <a:ext cx="7848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nap ITC"/>
              </a:rPr>
              <a:t>WHY SHOULD WE GO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06:13:01Z</dcterms:created>
  <dc:creator>Catherine Wood</dc:creator>
  <dc:description/>
  <dc:language>en-US</dc:language>
  <cp:lastModifiedBy>Philip Wood - PCA</cp:lastModifiedBy>
  <dcterms:modified xsi:type="dcterms:W3CDTF">2011-03-14T11:00:13Z</dcterms:modified>
  <cp:revision>14</cp:revision>
  <dc:subject/>
  <dc:title>Slide 1</dc:title>
</cp:coreProperties>
</file>